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3208-F987-4467-9D45-DB17FF1D7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E605-D317-4F87-8CD5-8048564567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118-D0D2-439B-9A8A-F4E8FB9B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D1B-71D8-4F55-99AF-2CDC6EA5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7F9-CC3C-44DC-9048-5C75F8A9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AC8-AC3A-4840-AC70-D0DA0462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C246-887D-4555-8215-2A3EB089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F762-E5A8-4363-8FB2-ABE8128E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DCFA-37AF-4E2E-A7C1-FC7C859D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1E79-4D68-4187-95DC-C89A3230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9F2C-5273-4B33-B2D0-EF8065AA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781C-CABE-4614-A40B-716B4516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3C43-AE35-41AB-8F06-1BF155A0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597-D555-4AE9-B644-77916114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F686-94DF-4C75-B9D3-F573922F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75DF-F5C7-421F-901A-85E2E66A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4C9C-3545-45EE-949C-7299CE73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D8A3-8E68-4F3B-8B80-CD00160F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6248-F3AB-45E3-9897-4ABFD913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426-42F4-476F-ACF8-789186C5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D6F-66BD-4557-9F12-D044DD0F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1D6-D963-4FF9-B796-8E65A4FF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D83-C87D-44CE-B5BC-6A2084FA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D6E-CC1C-4911-B50B-2C228190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A25-0625-4184-9E44-173B14E0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D15-D2CA-440D-9EE3-D929C72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9DB9-6B33-433B-AE27-DCCE56034F7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0623-C38F-4C8E-901A-BEA300220AE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3" descr=""/>
          <p:cNvPicPr/>
          <p:nvPr/>
        </p:nvPicPr>
        <p:blipFill>
          <a:blip r:embed="rId1"/>
          <a:stretch/>
        </p:blipFill>
        <p:spPr>
          <a:xfrm>
            <a:off x="324000" y="2408400"/>
            <a:ext cx="8307360" cy="3638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802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                         </a:t>
            </a:r>
            <a:r>
              <a:rPr b="0" lang="en-US" sz="4600" spc="-1" strike="noStrike">
                <a:solidFill>
                  <a:srgbClr val="af9738"/>
                </a:solidFill>
                <a:latin typeface="comic"/>
              </a:rPr>
              <a:t>Green Buildings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3520" y="16002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 constructions and materials/components that makes these types of buildings environmentally friendly are: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ergy efficiency and renewable energ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er efficienc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vironmentally preferable building material and specifica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ste reduc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7" descr=""/>
          <p:cNvPicPr/>
          <p:nvPr/>
        </p:nvPicPr>
        <p:blipFill>
          <a:blip r:embed="rId1"/>
          <a:stretch/>
        </p:blipFill>
        <p:spPr>
          <a:xfrm>
            <a:off x="1822320" y="603360"/>
            <a:ext cx="5499360" cy="615960"/>
          </a:xfrm>
          <a:prstGeom prst="rect">
            <a:avLst/>
          </a:prstGeom>
          <a:ln w="0">
            <a:noFill/>
          </a:ln>
        </p:spPr>
      </p:pic>
      <p:grpSp>
        <p:nvGrpSpPr>
          <p:cNvPr id="94" name="Picture Placeholder 8"/>
          <p:cNvGrpSpPr/>
          <p:nvPr/>
        </p:nvGrpSpPr>
        <p:grpSpPr>
          <a:xfrm>
            <a:off x="2828880" y="1444680"/>
            <a:ext cx="6705720" cy="5803920"/>
            <a:chOff x="2828880" y="1444680"/>
            <a:chExt cx="6705720" cy="5803920"/>
          </a:xfrm>
        </p:grpSpPr>
        <p:pic>
          <p:nvPicPr>
            <p:cNvPr id="95" name="Picture Placeholder 8" descr=""/>
            <p:cNvPicPr/>
            <p:nvPr/>
          </p:nvPicPr>
          <p:blipFill>
            <a:blip r:embed="rId2"/>
            <a:stretch/>
          </p:blipFill>
          <p:spPr>
            <a:xfrm>
              <a:off x="2828880" y="1444680"/>
              <a:ext cx="6705720" cy="58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897280" y="1484280"/>
              <a:ext cx="6246720" cy="53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246852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GREEN BUILDINGS ARE DESIGNED TO REDUCE THE OVERAL IMPACT OF THE  BUILT ENVIROMENT ON HUMAN HEALTH AND THE NATURAL ENVIRONMENT…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Y…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Book Antiqua"/>
              </a:rPr>
              <a:t>EFFICIENTLY USING ENERGY, WATER AND OTHER RESOURCES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Book Antiqua"/>
              </a:rPr>
              <a:t>PROTECTING OCCUPANT HEALTH ETC….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icture Placeholder 8"/>
          <p:cNvSpPr/>
          <p:nvPr/>
        </p:nvSpPr>
        <p:spPr>
          <a:xfrm>
            <a:off x="2897280" y="1484280"/>
            <a:ext cx="6246720" cy="5373720"/>
          </a:xfrm>
          <a:prstGeom prst="rect">
            <a:avLst/>
          </a:prstGeom>
          <a:solidFill>
            <a:srgbClr val="5c5a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passive_cooling_portland_green_building.jpg"/>
          <p:cNvPicPr/>
          <p:nvPr/>
        </p:nvPicPr>
        <p:blipFill>
          <a:blip r:embed="rId3"/>
          <a:stretch/>
        </p:blipFill>
        <p:spPr>
          <a:xfrm>
            <a:off x="2819520" y="1447920"/>
            <a:ext cx="629424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6:50:49Z</dcterms:created>
  <dc:creator> </dc:creator>
  <dc:description/>
  <dc:language>en-US</dc:language>
  <cp:lastModifiedBy> </cp:lastModifiedBy>
  <dcterms:modified xsi:type="dcterms:W3CDTF">2009-05-01T17:00:06Z</dcterms:modified>
  <cp:revision>14</cp:revision>
  <dc:subject/>
  <dc:title>Elisabeth Nunez.  Johanny Cabrera. Paola Pena.                Edison Garcia. Julia Guzman.</dc:title>
</cp:coreProperties>
</file>